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D61C-4A17-45DF-83F5-64EDA743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68A8-0BF4-4944-8D7F-4DF296E0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ADF1-748E-411D-9D79-B33BE396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E087-5CF4-4C21-AD86-BA0E1C5B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3A3A-E3B5-40AE-A06C-468C94BD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5AA9-E204-46B7-B798-8A95F880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687A-CAF3-4E0A-AE00-9668DBCC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3A6B-3B0C-4E64-9EA3-DEB4D435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18CE-F428-4107-AF75-DF5F4D6A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96E0-95C9-47BF-81FC-765EA558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36DC-4026-403E-AC53-88D17C97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8DED-B322-4F26-8205-18062CAF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3649-F444-4852-9886-C2F2CFA94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Prayer after Commun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calls us together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aise t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makes us one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has forgiven our s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aise t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gives hope and freed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se Word is proclaim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Praise to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is revealed as lover</a:t>
            </a: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lessed b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alone has calle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refore we offer all that we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ll we shall bec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ccept, O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ur sacrifice of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ccept our thank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all that we 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hands were empt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you filled th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2:58:10Z</dcterms:created>
  <dc:creator>Anon Anon</dc:creator>
  <dc:description/>
  <dc:language>en-US</dc:language>
  <cp:lastModifiedBy>Anon Anon</cp:lastModifiedBy>
  <dcterms:modified xsi:type="dcterms:W3CDTF">2005-08-09T05:07:23Z</dcterms:modified>
  <cp:revision>12</cp:revision>
  <dc:subject/>
  <dc:title>Prayer after Communion (SLD-2)</dc:title>
</cp:coreProperties>
</file>